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0F1E-1E6D-4F86-908F-E1268FEA7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D49E-D312-4165-8415-FBDD046A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1F9F-94B1-468B-912F-C30A69B11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4E42-CA48-477D-9E41-853593FDB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69E2-824D-47E1-A278-D30A88F2E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4F33-65C2-4C3F-A3B4-5B9ED0BB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43A6-6117-4A81-BC34-734CDB1A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B007-91C3-40E6-B008-B7D29E72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4B82-D3A6-4D95-8027-61C7CED9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D4E8-75D8-4B8C-B76C-1DA70F2D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FCB1-39D8-4163-A62C-0FF1A0F2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6EA9-6624-488B-8637-C59CC8EA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D04E-B64D-40EB-8083-E5AA2E43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E7F6-DAFA-4FEF-8B7F-BD3B903D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273C-6D50-4D4B-A04F-DB9D0A65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2874-BCEA-483C-823F-7194EE05C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F631-53B1-48D0-9EA0-BF8FD7ABE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0AAF9-1DD1-4AC7-9276-7E5C69C61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980F6-0819-4961-B3B0-DFBBB63A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419FA-E725-4A5A-B6F5-A2A48516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B3534-C752-4712-8C82-127DEB38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7A856-84AC-4B81-956D-5BB7B9C6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214D-9682-4DB9-8FF3-24CCEC3C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4039C-D9B0-46DD-9A65-CF888593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953EE-334D-448D-A6E5-DD5F2B1A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AF071-B06B-48AF-B526-80790A1C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66235-D319-44CE-838B-E413DEC9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832D9-C1E4-4261-B596-773A5260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7DB5F-10AE-4E7C-8FE1-5128CE305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7484E-3658-4435-9127-DD027361F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BC5FC-1D24-43BB-8FD1-3D58809D8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B57F6-4087-430A-AADA-94D2FE8F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0F0B6-CBED-4F9A-8C26-D11680A9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F4CA-08DF-47A4-95FC-A2DAA155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EE377-98A5-4930-B95A-250DF781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E808B-0C2D-4E80-84A7-44175683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02009-4BC2-4C6C-919C-189E7312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2C38C-357C-413A-9995-65177C7D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BF7EB-B53C-4C3E-81F7-AD940BC1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0788E-2D4E-4276-97C6-186766DE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D0177-6B65-45FD-9197-814C0313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2BAA4-C208-49DE-B592-B57143DDB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D2B1E-8846-45B9-B31D-BC077E8D4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8794D-9DD6-49A8-9CCB-685E9D5A0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6B36-595E-408A-BA74-B17CDCA2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BCC43-EA93-4F42-8940-4B337577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A4963-D5B3-492F-83DF-B70FBDCE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1A3E7-1804-4AFD-9B5D-8E7A99EF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A4A2C-1259-4419-8F7F-2336F875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4B511-75D4-4A91-AD12-F6BA6541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A1993-169F-4571-BA7C-2374B1C6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6EC70-36DB-4EBC-8CF7-41D7948D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45127-80FB-4C90-8367-73E2AB0E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534E0-D80F-42F0-8AFE-0101432D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E6D85-F1F3-4742-9292-C1C5A4D98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4BC6-FB1B-445F-911E-6DAB025B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1FBCA-C153-4B8B-9584-5B2397A66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1C6D6-5AE7-497A-A65F-F53DB38B5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989F7-B0EA-4B5B-B172-1300F5BC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AB3F5-6AFD-4B74-A177-117F5E1F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EE4A7-D426-4B82-BBBB-F497C021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6FB9F-1884-4939-88F7-1AB0B246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7ABC3-42F3-46ED-BDF2-02300DCC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C90AD-9765-4495-9ECD-368B9487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4A273-B0C8-4A2F-8C37-BE6894D8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AAF35-4E40-4BD9-ACBB-8BF0F081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4A33-181E-4274-9C71-9B50E841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72CF6-AAB2-425C-B2BD-0F21F74F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3101E-41D9-4CF1-A9A2-A4FE638DA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2B5D3-BA4D-44AD-860E-79599410D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F5E5-3E8E-4DF6-8726-D4B27D54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E527-0FF6-481C-B982-2402C40F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2CA974F-DCA6-44B9-9994-B660654B08A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C3CC16F-10E7-4F25-813F-309544C11D4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5AA628E-FC39-4212-BC51-65AB48351C1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B16CAA0-761C-4206-B36E-A6B4F891034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93C8B94-7FE2-4C32-BD7C-307CC6BD80C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0B6482E-3F8F-4E99-BA52-2A4AABF8D36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8 ГОД И ПЛАНОВЫЙ ПЕРИОД 2019-2020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  </a:t>
            </a:r>
            <a:br>
              <a:rPr sz="10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(решение Думы Дальнереченского городского округа от 19.12.2017 № № 106</a:t>
            </a:r>
            <a:br>
              <a:rPr sz="13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"О  бюджете Дальнереченского городского округа на 2018 год и плановый период 2019-2020г.г.«)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4338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4996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0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8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1,4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2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6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3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9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4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6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9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8 ГОД  </a:t>
            </a:r>
            <a:br>
              <a:rPr sz="1500"/>
            </a:b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514,78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8 год – 328,95 млн.руб. (местный бюджет – 118,36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10,5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50,9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8 год - 13,18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10,15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0,7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0,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9,5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1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296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19800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96088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5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9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7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1,4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6,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8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 на восстановление автомобильных дорог и мост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8 ГОД (502,8 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8 ГОДУ (281,29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53828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828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8 ГОДУ (215,3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4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4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7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9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4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8 ГОД (514,7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02-01T23:55:44Z</dcterms:modified>
  <cp:revision>140</cp:revision>
  <dc:subject/>
  <dc:title>Структура собственных доходов на 2016 год бюджета Дальнереченского городского округа</dc:title>
</cp:coreProperties>
</file>